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EDA-D4E1-4CF9-8EF8-7459D830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055-B16F-466B-9AE5-BDE8BA698F99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99C-5FB4-48F8-938D-6B6F729E8BEC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4E7-C75E-4075-B6C0-7ADF3724A40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5F2-D50E-427A-BB50-6D4BCC45528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43DF-EE5D-4517-AE6A-796FD54F6C99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E8B-F2B4-4E0A-91B2-BC731B512D0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7B0-82C0-4C49-98E3-44311E0F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C76-6420-4168-96E6-F84277F7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C52-1555-4E00-8C97-62E045F7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B4B-3ADB-4375-9A79-7E270D8A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4D4B-1BB9-47C9-B06D-5B805AD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DA6-610D-4913-8B88-C952BCD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F9C-9867-4252-9095-A2E29900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BA3-6B61-4AA3-847A-2C09B193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705-C7D5-4C4D-8E78-6096B70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34F-7A0B-42FA-8201-4F33AE47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10DD-8862-4EBC-A977-5971D89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CA-C351-464D-8A9E-B2DFE33E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0268-E6B9-4E5B-B4FC-74C02D1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FDF4-0238-480B-9EAA-F9BDEB6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D749-289F-425F-814A-B9A5C7F5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08C4-F53C-4493-8170-FC3B5B9D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E4D-3C27-4186-9F5F-6526A53E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DB6-C6F2-4D9F-9D74-14E59A3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C20-A1E0-455A-BD64-19294F0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D6C-938C-4F99-BAFD-A33CB6A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64C-4CB3-4472-962D-2280B6B9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539-6999-4AF4-B088-4BE1988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4E4-DE8B-42C4-A293-3141C72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D78-1C31-4AC1-AA72-18BC0FEB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F45-6567-47C4-ADBE-624AC8DF0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A4ED-F55B-4010-936C-5FA4E6AC831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&amp;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AND DEMAND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Equilibriu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refers to a situation in which the price has reached the level where quantity supplied equals quantity demanded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/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quilibrium of Supply an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3f6f9"/>
          </a:solidFill>
          <a:ln w="2350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2f4f8"/>
          </a:solidFill>
          <a:ln w="2127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1f4f7"/>
          </a:solidFill>
          <a:ln w="1922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f0f2f5"/>
          </a:solidFill>
          <a:ln w="1699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ef1f4"/>
          </a:solidFill>
          <a:ln w="1494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deff3"/>
          </a:solidFill>
          <a:ln w="12852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beef2"/>
          </a:solidFill>
          <a:ln w="1062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aecf1"/>
          </a:solidFill>
          <a:ln w="856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9ebf0"/>
          </a:solidFill>
          <a:ln w="633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7eaef"/>
          </a:solidFill>
          <a:ln w="4284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606680" y="1444680"/>
            <a:ext cx="7016760" cy="4589280"/>
          </a:xfrm>
          <a:prstGeom prst="rect">
            <a:avLst/>
          </a:prstGeom>
          <a:solidFill>
            <a:srgbClr val="e6e9ef"/>
          </a:solidFill>
          <a:ln w="2052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500120" y="1338120"/>
            <a:ext cx="7016760" cy="458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>
            <a:off x="194796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>
            <a:off x="239544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28432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329256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374004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>
            <a:off x="41878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>
            <a:off x="506268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551016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595800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>
            <a:off x="640548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Line 27"/>
          <p:cNvSpPr/>
          <p:nvPr/>
        </p:nvSpPr>
        <p:spPr>
          <a:xfrm>
            <a:off x="6853320" y="5735520"/>
            <a:ext cx="144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730080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4635360" y="5735520"/>
            <a:ext cx="1800" cy="192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1494000" y="1338120"/>
            <a:ext cx="7016760" cy="45896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589640"/>
              <a:gd name="textAreaBottom" fmla="*/ 4589640 h 4589640"/>
            </a:gdLst>
            <a:ahLst/>
            <a:rect l="textAreaLeft" t="textAreaTop" r="textAreaRight" b="textAreaBottom"/>
            <a:pathLst>
              <a:path w="4420" h="2891">
                <a:moveTo>
                  <a:pt x="0" y="0"/>
                </a:moveTo>
                <a:lnTo>
                  <a:pt x="0" y="2891"/>
                </a:lnTo>
                <a:lnTo>
                  <a:pt x="4420" y="289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551160" y="1292400"/>
            <a:ext cx="83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280440" y="1576440"/>
            <a:ext cx="110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807480" y="186048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14335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18730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23335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277956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32338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36799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13388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5799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Rectangle 42"/>
          <p:cNvSpPr/>
          <p:nvPr/>
        </p:nvSpPr>
        <p:spPr>
          <a:xfrm>
            <a:off x="500220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Rectangle 43"/>
          <p:cNvSpPr/>
          <p:nvPr/>
        </p:nvSpPr>
        <p:spPr>
          <a:xfrm>
            <a:off x="5454720" y="5942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Rectangle 44"/>
          <p:cNvSpPr/>
          <p:nvPr/>
        </p:nvSpPr>
        <p:spPr>
          <a:xfrm>
            <a:off x="58374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Rectangle 45"/>
          <p:cNvSpPr/>
          <p:nvPr/>
        </p:nvSpPr>
        <p:spPr>
          <a:xfrm>
            <a:off x="62784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Rectangle 46"/>
          <p:cNvSpPr/>
          <p:nvPr/>
        </p:nvSpPr>
        <p:spPr>
          <a:xfrm>
            <a:off x="672480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Rectangle 47"/>
          <p:cNvSpPr/>
          <p:nvPr/>
        </p:nvSpPr>
        <p:spPr>
          <a:xfrm>
            <a:off x="5377680" y="6234120"/>
            <a:ext cx="313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Ice-Cream C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7172280" y="594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61" name="Group 49"/>
          <p:cNvGrpSpPr/>
          <p:nvPr/>
        </p:nvGrpSpPr>
        <p:grpSpPr>
          <a:xfrm>
            <a:off x="4698720" y="4859280"/>
            <a:ext cx="1899000" cy="939960"/>
            <a:chOff x="4698720" y="4859280"/>
            <a:chExt cx="1899000" cy="939960"/>
          </a:xfrm>
        </p:grpSpPr>
        <p:sp>
          <p:nvSpPr>
            <p:cNvPr id="362" name="Line 50"/>
            <p:cNvSpPr/>
            <p:nvPr/>
          </p:nvSpPr>
          <p:spPr>
            <a:xfrm flipH="1">
              <a:off x="4698720" y="5137200"/>
              <a:ext cx="469800" cy="66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63" name="Group 51"/>
            <p:cNvGrpSpPr/>
            <p:nvPr/>
          </p:nvGrpSpPr>
          <p:grpSpPr>
            <a:xfrm>
              <a:off x="5168880" y="4859280"/>
              <a:ext cx="1428840" cy="725400"/>
              <a:chOff x="5168880" y="4859280"/>
              <a:chExt cx="1428840" cy="725400"/>
            </a:xfrm>
          </p:grpSpPr>
          <p:sp>
            <p:nvSpPr>
              <p:cNvPr id="364" name="Rectangle 52"/>
              <p:cNvSpPr/>
              <p:nvPr/>
            </p:nvSpPr>
            <p:spPr>
              <a:xfrm>
                <a:off x="5168880" y="4859280"/>
                <a:ext cx="1428840" cy="725400"/>
              </a:xfrm>
              <a:prstGeom prst="rect">
                <a:avLst/>
              </a:prstGeom>
              <a:solidFill>
                <a:srgbClr val="e1e5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5" name="Rectangle 53"/>
              <p:cNvSpPr/>
              <p:nvPr/>
            </p:nvSpPr>
            <p:spPr>
              <a:xfrm>
                <a:off x="5256360" y="4930920"/>
                <a:ext cx="1126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quilibrium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5254920" y="5214960"/>
                <a:ext cx="799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55"/>
          <p:cNvGrpSpPr/>
          <p:nvPr/>
        </p:nvGrpSpPr>
        <p:grpSpPr>
          <a:xfrm>
            <a:off x="1542600" y="3067200"/>
            <a:ext cx="2240280" cy="384120"/>
            <a:chOff x="1542600" y="3067200"/>
            <a:chExt cx="2240280" cy="384120"/>
          </a:xfrm>
        </p:grpSpPr>
        <p:sp>
          <p:nvSpPr>
            <p:cNvPr id="368" name="Line 56"/>
            <p:cNvSpPr/>
            <p:nvPr/>
          </p:nvSpPr>
          <p:spPr>
            <a:xfrm flipH="1">
              <a:off x="1542600" y="3236760"/>
              <a:ext cx="212760" cy="171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9" name="Rectangle 57"/>
            <p:cNvSpPr/>
            <p:nvPr/>
          </p:nvSpPr>
          <p:spPr>
            <a:xfrm>
              <a:off x="1735200" y="3067200"/>
              <a:ext cx="2047680" cy="3841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0" name="Rectangle 58"/>
            <p:cNvSpPr/>
            <p:nvPr/>
          </p:nvSpPr>
          <p:spPr>
            <a:xfrm>
              <a:off x="1815120" y="3119400"/>
              <a:ext cx="168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librium price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1" name="Group 59"/>
          <p:cNvGrpSpPr/>
          <p:nvPr/>
        </p:nvGrpSpPr>
        <p:grpSpPr>
          <a:xfrm>
            <a:off x="4784400" y="2981160"/>
            <a:ext cx="3198960" cy="513000"/>
            <a:chOff x="4784400" y="2981160"/>
            <a:chExt cx="3198960" cy="513000"/>
          </a:xfrm>
        </p:grpSpPr>
        <p:sp>
          <p:nvSpPr>
            <p:cNvPr id="372" name="Line 60"/>
            <p:cNvSpPr/>
            <p:nvPr/>
          </p:nvSpPr>
          <p:spPr>
            <a:xfrm flipH="1">
              <a:off x="4784400" y="3195720"/>
              <a:ext cx="183348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3" name="Rectangle 61"/>
            <p:cNvSpPr/>
            <p:nvPr/>
          </p:nvSpPr>
          <p:spPr>
            <a:xfrm>
              <a:off x="6576840" y="2981160"/>
              <a:ext cx="1406520" cy="4273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4" name="Rectangle 62"/>
            <p:cNvSpPr/>
            <p:nvPr/>
          </p:nvSpPr>
          <p:spPr>
            <a:xfrm>
              <a:off x="6674760" y="3059280"/>
              <a:ext cx="11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ilibrium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5" name="Group 63"/>
          <p:cNvGrpSpPr/>
          <p:nvPr/>
        </p:nvGrpSpPr>
        <p:grpSpPr>
          <a:xfrm>
            <a:off x="1777680" y="1859040"/>
            <a:ext cx="6326640" cy="3149640"/>
            <a:chOff x="1777680" y="1859040"/>
            <a:chExt cx="6326640" cy="3149640"/>
          </a:xfrm>
        </p:grpSpPr>
        <p:sp>
          <p:nvSpPr>
            <p:cNvPr id="376" name="Line 64"/>
            <p:cNvSpPr/>
            <p:nvPr/>
          </p:nvSpPr>
          <p:spPr>
            <a:xfrm flipH="1">
              <a:off x="1777680" y="2041560"/>
              <a:ext cx="5545080" cy="2967120"/>
            </a:xfrm>
            <a:prstGeom prst="line">
              <a:avLst/>
            </a:prstGeom>
            <a:ln w="63360">
              <a:solidFill>
                <a:srgbClr val="004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7" name="Rectangle 65"/>
            <p:cNvSpPr/>
            <p:nvPr/>
          </p:nvSpPr>
          <p:spPr>
            <a:xfrm>
              <a:off x="7407000" y="18590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8" name="Group 66"/>
          <p:cNvGrpSpPr/>
          <p:nvPr/>
        </p:nvGrpSpPr>
        <p:grpSpPr>
          <a:xfrm>
            <a:off x="1884240" y="2021040"/>
            <a:ext cx="6566040" cy="3159000"/>
            <a:chOff x="1884240" y="2021040"/>
            <a:chExt cx="6566040" cy="3159000"/>
          </a:xfrm>
        </p:grpSpPr>
        <p:sp>
          <p:nvSpPr>
            <p:cNvPr id="379" name="Line 67"/>
            <p:cNvSpPr/>
            <p:nvPr/>
          </p:nvSpPr>
          <p:spPr>
            <a:xfrm>
              <a:off x="1884240" y="2021040"/>
              <a:ext cx="5631120" cy="3009600"/>
            </a:xfrm>
            <a:prstGeom prst="line">
              <a:avLst/>
            </a:prstGeom>
            <a:ln w="63360">
              <a:solidFill>
                <a:srgbClr val="004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0" name="Rectangle 68"/>
            <p:cNvSpPr/>
            <p:nvPr/>
          </p:nvSpPr>
          <p:spPr>
            <a:xfrm>
              <a:off x="7588440" y="4905360"/>
              <a:ext cx="86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81" name="Group 69"/>
          <p:cNvGrpSpPr/>
          <p:nvPr/>
        </p:nvGrpSpPr>
        <p:grpSpPr>
          <a:xfrm>
            <a:off x="883800" y="3371760"/>
            <a:ext cx="3812040" cy="2363760"/>
            <a:chOff x="883800" y="3371760"/>
            <a:chExt cx="3812040" cy="2363760"/>
          </a:xfrm>
        </p:grpSpPr>
        <p:sp>
          <p:nvSpPr>
            <p:cNvPr id="382" name="Line 70"/>
            <p:cNvSpPr/>
            <p:nvPr/>
          </p:nvSpPr>
          <p:spPr>
            <a:xfrm>
              <a:off x="1522440" y="3494160"/>
              <a:ext cx="3092400" cy="1440"/>
            </a:xfrm>
            <a:prstGeom prst="line">
              <a:avLst/>
            </a:prstGeom>
            <a:ln w="2052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3" name="Freeform 71"/>
            <p:cNvSpPr/>
            <p:nvPr/>
          </p:nvSpPr>
          <p:spPr>
            <a:xfrm>
              <a:off x="4614840" y="3494160"/>
              <a:ext cx="20520" cy="2241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41360"/>
                <a:gd name="textAreaBottom" fmla="*/ 2241720 h 2241360"/>
              </a:gdLst>
              <a:ahLst/>
              <a:rect l="textAreaLeft" t="textAreaTop" r="textAreaRight" b="textAreaBottom"/>
              <a:pathLst>
                <a:path w="13" h="1412">
                  <a:moveTo>
                    <a:pt x="0" y="0"/>
                  </a:moveTo>
                  <a:lnTo>
                    <a:pt x="13" y="40"/>
                  </a:lnTo>
                  <a:lnTo>
                    <a:pt x="13" y="1412"/>
                  </a:lnTo>
                </a:path>
              </a:pathLst>
            </a:custGeom>
            <a:noFill/>
            <a:ln w="2052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4" name="Oval 72"/>
            <p:cNvSpPr/>
            <p:nvPr/>
          </p:nvSpPr>
          <p:spPr>
            <a:xfrm>
              <a:off x="4549680" y="3408480"/>
              <a:ext cx="146160" cy="149040"/>
            </a:xfrm>
            <a:prstGeom prst="ellipse">
              <a:avLst/>
            </a:prstGeom>
            <a:solidFill>
              <a:srgbClr val="292929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5" name="Rectangle 73"/>
            <p:cNvSpPr/>
            <p:nvPr/>
          </p:nvSpPr>
          <p:spPr>
            <a:xfrm>
              <a:off x="883800" y="337176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2.00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&amp;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many World Series tickets they would be willing to buy at $2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many would you be willing to buy at $5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$100.00 each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$500.00 each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group of buyers and sellers of a particular good or servic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terms supply and demand refer to the behavior of people . . . as they interact with one another in market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1447920" y="3048120"/>
          <a:ext cx="223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223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competi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1981080" y="2438280"/>
          <a:ext cx="448164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448164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yers determine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llers determine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supp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ligopo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w sell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t always aggressive competi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nopolistic competi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y sell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lightly differentiated 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ach seller may set price for its own produ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ompetition: Perfect and Otherw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Quantity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demande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the amount of a good that buyers are willing and able to purchas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f Dem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quantity demanded of a good falls when the price of the good ris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ure 1 Demand Schedule and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564960" y="668016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3f6f9"/>
          </a:solidFill>
          <a:ln w="20304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2f4f8"/>
          </a:solidFill>
          <a:ln w="1843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1f4f7"/>
          </a:solidFill>
          <a:ln w="1666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f0f2f5"/>
          </a:solidFill>
          <a:ln w="1476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ef1f4"/>
          </a:solidFill>
          <a:ln w="12852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deff3"/>
          </a:solidFill>
          <a:ln w="1112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beef2"/>
          </a:solidFill>
          <a:ln w="921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aecf1"/>
          </a:solidFill>
          <a:ln w="7452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9ebf0"/>
          </a:solidFill>
          <a:ln w="5544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3081240" y="1376280"/>
            <a:ext cx="4969080" cy="419112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989440" y="1301760"/>
            <a:ext cx="4968720" cy="41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2989440" y="252576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2989440" y="315756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2989440" y="3713040"/>
            <a:ext cx="14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989440" y="430704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2989440" y="4937040"/>
            <a:ext cx="147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32655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57984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389412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18932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448452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478008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50943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3895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70384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999040" y="5364000"/>
            <a:ext cx="180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627696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3044880" y="1951200"/>
            <a:ext cx="3516120" cy="3522600"/>
          </a:xfrm>
          <a:prstGeom prst="line">
            <a:avLst/>
          </a:prstGeom>
          <a:ln w="55440">
            <a:solidFill>
              <a:srgbClr val="004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34"/>
          <p:cNvSpPr/>
          <p:nvPr/>
        </p:nvSpPr>
        <p:spPr>
          <a:xfrm>
            <a:off x="2951280" y="1857240"/>
            <a:ext cx="129960" cy="130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Oval 35"/>
          <p:cNvSpPr/>
          <p:nvPr/>
        </p:nvSpPr>
        <p:spPr>
          <a:xfrm>
            <a:off x="6499080" y="5381640"/>
            <a:ext cx="128880" cy="130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51" name="Group 36"/>
          <p:cNvGrpSpPr/>
          <p:nvPr/>
        </p:nvGrpSpPr>
        <p:grpSpPr>
          <a:xfrm>
            <a:off x="3137040" y="2451240"/>
            <a:ext cx="517320" cy="2912760"/>
            <a:chOff x="3137040" y="2451240"/>
            <a:chExt cx="517320" cy="2912760"/>
          </a:xfrm>
        </p:grpSpPr>
        <p:sp>
          <p:nvSpPr>
            <p:cNvPr id="152" name="Freeform 37"/>
            <p:cNvSpPr/>
            <p:nvPr/>
          </p:nvSpPr>
          <p:spPr>
            <a:xfrm>
              <a:off x="3137040" y="2525760"/>
              <a:ext cx="442800" cy="2838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279" h="1788">
                  <a:moveTo>
                    <a:pt x="0" y="0"/>
                  </a:moveTo>
                  <a:lnTo>
                    <a:pt x="279" y="0"/>
                  </a:lnTo>
                  <a:lnTo>
                    <a:pt x="279" y="1788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3543480" y="2451240"/>
              <a:ext cx="110880" cy="12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54" name="Group 39"/>
          <p:cNvGrpSpPr/>
          <p:nvPr/>
        </p:nvGrpSpPr>
        <p:grpSpPr>
          <a:xfrm>
            <a:off x="3137040" y="3083040"/>
            <a:ext cx="1144440" cy="2280960"/>
            <a:chOff x="3137040" y="3083040"/>
            <a:chExt cx="1144440" cy="2280960"/>
          </a:xfrm>
        </p:grpSpPr>
        <p:sp>
          <p:nvSpPr>
            <p:cNvPr id="155" name="Oval 40"/>
            <p:cNvSpPr/>
            <p:nvPr/>
          </p:nvSpPr>
          <p:spPr>
            <a:xfrm>
              <a:off x="4170240" y="3083040"/>
              <a:ext cx="111240" cy="128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>
              <a:off x="3137040" y="3156120"/>
              <a:ext cx="1052280" cy="220788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2207880"/>
                <a:gd name="textAreaBottom" fmla="*/ 2208240 h 2207880"/>
              </a:gdLst>
              <a:ahLst/>
              <a:rect l="textAreaLeft" t="textAreaTop" r="textAreaRight" b="textAreaBottom"/>
              <a:pathLst>
                <a:path w="663" h="1391">
                  <a:moveTo>
                    <a:pt x="0" y="0"/>
                  </a:moveTo>
                  <a:lnTo>
                    <a:pt x="663" y="0"/>
                  </a:lnTo>
                  <a:lnTo>
                    <a:pt x="663" y="1391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57" name="Group 42"/>
          <p:cNvGrpSpPr/>
          <p:nvPr/>
        </p:nvGrpSpPr>
        <p:grpSpPr>
          <a:xfrm>
            <a:off x="3137040" y="3657600"/>
            <a:ext cx="1717560" cy="1706400"/>
            <a:chOff x="3137040" y="3657600"/>
            <a:chExt cx="1717560" cy="1706400"/>
          </a:xfrm>
        </p:grpSpPr>
        <p:sp>
          <p:nvSpPr>
            <p:cNvPr id="158" name="Oval 43"/>
            <p:cNvSpPr/>
            <p:nvPr/>
          </p:nvSpPr>
          <p:spPr>
            <a:xfrm>
              <a:off x="4743360" y="3657600"/>
              <a:ext cx="11124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>
              <a:off x="3137040" y="3713040"/>
              <a:ext cx="1643040" cy="165096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1035" h="1040">
                  <a:moveTo>
                    <a:pt x="0" y="0"/>
                  </a:moveTo>
                  <a:lnTo>
                    <a:pt x="1035" y="0"/>
                  </a:lnTo>
                  <a:lnTo>
                    <a:pt x="1035" y="1040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3137040" y="4213080"/>
            <a:ext cx="2307960" cy="1150920"/>
            <a:chOff x="3137040" y="4213080"/>
            <a:chExt cx="2307960" cy="1150920"/>
          </a:xfrm>
        </p:grpSpPr>
        <p:sp>
          <p:nvSpPr>
            <p:cNvPr id="161" name="Oval 46"/>
            <p:cNvSpPr/>
            <p:nvPr/>
          </p:nvSpPr>
          <p:spPr>
            <a:xfrm>
              <a:off x="5316480" y="4213080"/>
              <a:ext cx="12852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>
              <a:off x="3137040" y="4307040"/>
              <a:ext cx="2252520" cy="105696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419" h="666">
                  <a:moveTo>
                    <a:pt x="0" y="0"/>
                  </a:moveTo>
                  <a:lnTo>
                    <a:pt x="1419" y="0"/>
                  </a:lnTo>
                  <a:lnTo>
                    <a:pt x="1419" y="666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63" name="Line 48"/>
          <p:cNvSpPr/>
          <p:nvPr/>
        </p:nvSpPr>
        <p:spPr>
          <a:xfrm flipH="1">
            <a:off x="2989440" y="1913040"/>
            <a:ext cx="147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6608880" y="5364000"/>
            <a:ext cx="14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5" name="Group 50"/>
          <p:cNvGrpSpPr/>
          <p:nvPr/>
        </p:nvGrpSpPr>
        <p:grpSpPr>
          <a:xfrm>
            <a:off x="3137040" y="4862520"/>
            <a:ext cx="2936880" cy="501480"/>
            <a:chOff x="3137040" y="4862520"/>
            <a:chExt cx="2936880" cy="501480"/>
          </a:xfrm>
        </p:grpSpPr>
        <p:sp>
          <p:nvSpPr>
            <p:cNvPr id="166" name="Freeform 51"/>
            <p:cNvSpPr/>
            <p:nvPr/>
          </p:nvSpPr>
          <p:spPr>
            <a:xfrm>
              <a:off x="3137040" y="4937040"/>
              <a:ext cx="2881080" cy="42696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15" h="269">
                  <a:moveTo>
                    <a:pt x="0" y="0"/>
                  </a:moveTo>
                  <a:lnTo>
                    <a:pt x="1815" y="0"/>
                  </a:lnTo>
                  <a:lnTo>
                    <a:pt x="1815" y="269"/>
                  </a:lnTo>
                </a:path>
              </a:pathLst>
            </a:custGeom>
            <a:noFill/>
            <a:ln w="19080">
              <a:solidFill>
                <a:srgbClr val="29292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7" name="Oval 52"/>
            <p:cNvSpPr/>
            <p:nvPr/>
          </p:nvSpPr>
          <p:spPr>
            <a:xfrm>
              <a:off x="5945040" y="4862520"/>
              <a:ext cx="1288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68" name="Freeform 53"/>
          <p:cNvSpPr/>
          <p:nvPr/>
        </p:nvSpPr>
        <p:spPr>
          <a:xfrm>
            <a:off x="2989440" y="5475240"/>
            <a:ext cx="4968720" cy="1800"/>
          </a:xfrm>
          <a:custGeom>
            <a:avLst/>
            <a:gdLst>
              <a:gd name="textAreaLeft" fmla="*/ 0 w 4968720"/>
              <a:gd name="textAreaRight" fmla="*/ 4968720 w 4968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30" h="1587">
                <a:moveTo>
                  <a:pt x="0" y="0"/>
                </a:moveTo>
                <a:lnTo>
                  <a:pt x="3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2989440" y="5475240"/>
            <a:ext cx="496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Freeform 55"/>
          <p:cNvSpPr/>
          <p:nvPr/>
        </p:nvSpPr>
        <p:spPr>
          <a:xfrm>
            <a:off x="3006720" y="1301760"/>
            <a:ext cx="1440" cy="4192560"/>
          </a:xfrm>
          <a:custGeom>
            <a:avLst/>
            <a:gdLst>
              <a:gd name="textAreaLeft" fmla="*/ 0 w 1440"/>
              <a:gd name="textAreaRight" fmla="*/ 1800 w 1440"/>
              <a:gd name="textAreaTop" fmla="*/ 0 h 4192560"/>
              <a:gd name="textAreaBottom" fmla="*/ 4192920 h 4192560"/>
            </a:gdLst>
            <a:ahLst/>
            <a:rect l="textAreaLeft" t="textAreaTop" r="textAreaRight" b="textAreaBottom"/>
            <a:pathLst>
              <a:path w="1588" h="2641">
                <a:moveTo>
                  <a:pt x="0" y="0"/>
                </a:moveTo>
                <a:lnTo>
                  <a:pt x="0" y="264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3006720" y="1301760"/>
            <a:ext cx="144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 flipH="1">
            <a:off x="4208040" y="5772240"/>
            <a:ext cx="5540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Rectangle 58"/>
          <p:cNvSpPr/>
          <p:nvPr/>
        </p:nvSpPr>
        <p:spPr>
          <a:xfrm>
            <a:off x="2207160" y="123048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1432800" y="1476360"/>
            <a:ext cx="154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e-Cream Co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29545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61"/>
          <p:cNvSpPr/>
          <p:nvPr/>
        </p:nvSpPr>
        <p:spPr>
          <a:xfrm>
            <a:off x="2546280" y="24112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62"/>
          <p:cNvSpPr/>
          <p:nvPr/>
        </p:nvSpPr>
        <p:spPr>
          <a:xfrm>
            <a:off x="2546280" y="3027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Rectangle 63"/>
          <p:cNvSpPr/>
          <p:nvPr/>
        </p:nvSpPr>
        <p:spPr>
          <a:xfrm>
            <a:off x="2546280" y="3600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Rectangle 64"/>
          <p:cNvSpPr/>
          <p:nvPr/>
        </p:nvSpPr>
        <p:spPr>
          <a:xfrm>
            <a:off x="2546280" y="4197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Rectangle 65"/>
          <p:cNvSpPr/>
          <p:nvPr/>
        </p:nvSpPr>
        <p:spPr>
          <a:xfrm>
            <a:off x="2546280" y="4815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Rectangle 66"/>
          <p:cNvSpPr/>
          <p:nvPr/>
        </p:nvSpPr>
        <p:spPr>
          <a:xfrm>
            <a:off x="32562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Rectangle 67"/>
          <p:cNvSpPr/>
          <p:nvPr/>
        </p:nvSpPr>
        <p:spPr>
          <a:xfrm>
            <a:off x="355788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38610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Rectangle 69"/>
          <p:cNvSpPr/>
          <p:nvPr/>
        </p:nvSpPr>
        <p:spPr>
          <a:xfrm>
            <a:off x="416268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Rectangle 70"/>
          <p:cNvSpPr/>
          <p:nvPr/>
        </p:nvSpPr>
        <p:spPr>
          <a:xfrm>
            <a:off x="446436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47725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72"/>
          <p:cNvSpPr/>
          <p:nvPr/>
        </p:nvSpPr>
        <p:spPr>
          <a:xfrm>
            <a:off x="507384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73"/>
          <p:cNvSpPr/>
          <p:nvPr/>
        </p:nvSpPr>
        <p:spPr>
          <a:xfrm>
            <a:off x="537732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Rectangle 74"/>
          <p:cNvSpPr/>
          <p:nvPr/>
        </p:nvSpPr>
        <p:spPr>
          <a:xfrm>
            <a:off x="5679000" y="5497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Rectangle 75"/>
          <p:cNvSpPr/>
          <p:nvPr/>
        </p:nvSpPr>
        <p:spPr>
          <a:xfrm>
            <a:off x="592416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Rectangle 76"/>
          <p:cNvSpPr/>
          <p:nvPr/>
        </p:nvSpPr>
        <p:spPr>
          <a:xfrm>
            <a:off x="623196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Rectangle 77"/>
          <p:cNvSpPr/>
          <p:nvPr/>
        </p:nvSpPr>
        <p:spPr>
          <a:xfrm>
            <a:off x="6976800" y="5492880"/>
            <a:ext cx="106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Rectangle 78"/>
          <p:cNvSpPr/>
          <p:nvPr/>
        </p:nvSpPr>
        <p:spPr>
          <a:xfrm>
            <a:off x="6405480" y="57405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e-Cream Con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Rectangle 79"/>
          <p:cNvSpPr/>
          <p:nvPr/>
        </p:nvSpPr>
        <p:spPr>
          <a:xfrm>
            <a:off x="2440440" y="1789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.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80"/>
          <p:cNvSpPr/>
          <p:nvPr/>
        </p:nvSpPr>
        <p:spPr>
          <a:xfrm>
            <a:off x="6533640" y="5497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6" name="Group 81"/>
          <p:cNvGrpSpPr/>
          <p:nvPr/>
        </p:nvGrpSpPr>
        <p:grpSpPr>
          <a:xfrm>
            <a:off x="901800" y="2897280"/>
            <a:ext cx="1809720" cy="538200"/>
            <a:chOff x="901800" y="2897280"/>
            <a:chExt cx="1809720" cy="538200"/>
          </a:xfrm>
        </p:grpSpPr>
        <p:grpSp>
          <p:nvGrpSpPr>
            <p:cNvPr id="197" name="Group 82"/>
            <p:cNvGrpSpPr/>
            <p:nvPr/>
          </p:nvGrpSpPr>
          <p:grpSpPr>
            <a:xfrm>
              <a:off x="901800" y="2897280"/>
              <a:ext cx="1809720" cy="538200"/>
              <a:chOff x="901800" y="2897280"/>
              <a:chExt cx="1809720" cy="53820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901800" y="2897280"/>
                <a:ext cx="1422360" cy="538200"/>
              </a:xfrm>
              <a:prstGeom prst="rect">
                <a:avLst/>
              </a:prstGeom>
              <a:solidFill>
                <a:srgbClr val="e1e5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99" name="Line 84"/>
              <p:cNvSpPr/>
              <p:nvPr/>
            </p:nvSpPr>
            <p:spPr>
              <a:xfrm flipH="1" flipV="1">
                <a:off x="2324160" y="3211560"/>
                <a:ext cx="38736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0" name="Rectangle 85"/>
              <p:cNvSpPr/>
              <p:nvPr/>
            </p:nvSpPr>
            <p:spPr>
              <a:xfrm>
                <a:off x="981720" y="2909880"/>
                <a:ext cx="1309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 A decrease 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1" name="Rectangle 86"/>
              <p:cNvSpPr/>
              <p:nvPr/>
            </p:nvSpPr>
            <p:spPr>
              <a:xfrm>
                <a:off x="980280" y="3156120"/>
                <a:ext cx="655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 price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02" name="Rectangle 87"/>
            <p:cNvSpPr/>
            <p:nvPr/>
          </p:nvSpPr>
          <p:spPr>
            <a:xfrm>
              <a:off x="1659960" y="318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03" name="Group 88"/>
          <p:cNvGrpSpPr/>
          <p:nvPr/>
        </p:nvGrpSpPr>
        <p:grpSpPr>
          <a:xfrm>
            <a:off x="3763800" y="5789520"/>
            <a:ext cx="2258280" cy="704880"/>
            <a:chOff x="3763800" y="5789520"/>
            <a:chExt cx="2258280" cy="704880"/>
          </a:xfrm>
        </p:grpSpPr>
        <p:sp>
          <p:nvSpPr>
            <p:cNvPr id="204" name="Line 89"/>
            <p:cNvSpPr/>
            <p:nvPr/>
          </p:nvSpPr>
          <p:spPr>
            <a:xfrm flipV="1">
              <a:off x="3913200" y="5789520"/>
              <a:ext cx="47952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5" name="Rectangle 90"/>
            <p:cNvSpPr/>
            <p:nvPr/>
          </p:nvSpPr>
          <p:spPr>
            <a:xfrm>
              <a:off x="3763800" y="5975280"/>
              <a:ext cx="2217960" cy="5191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6" name="Rectangle 91"/>
            <p:cNvSpPr/>
            <p:nvPr/>
          </p:nvSpPr>
          <p:spPr>
            <a:xfrm>
              <a:off x="3822840" y="598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7" name="Rectangle 92"/>
            <p:cNvSpPr/>
            <p:nvPr/>
          </p:nvSpPr>
          <p:spPr>
            <a:xfrm>
              <a:off x="4045680" y="598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8" name="Rectangle 93"/>
            <p:cNvSpPr/>
            <p:nvPr/>
          </p:nvSpPr>
          <p:spPr>
            <a:xfrm>
              <a:off x="4326840" y="5983200"/>
              <a:ext cx="169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ases quantity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9" name="Rectangle 94"/>
            <p:cNvSpPr/>
            <p:nvPr/>
          </p:nvSpPr>
          <p:spPr>
            <a:xfrm>
              <a:off x="3823200" y="6229440"/>
              <a:ext cx="184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cones demanded.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10" name="Line 95"/>
          <p:cNvSpPr/>
          <p:nvPr/>
        </p:nvSpPr>
        <p:spPr>
          <a:xfrm flipH="1" flipV="1">
            <a:off x="2784600" y="3284640"/>
            <a:ext cx="1440" cy="326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Picture 96" descr=""/>
          <p:cNvPicPr/>
          <p:nvPr/>
        </p:nvPicPr>
        <p:blipFill>
          <a:blip r:embed="rId2"/>
          <a:srcRect l="0" t="0" r="0" b="1888"/>
          <a:stretch/>
        </p:blipFill>
        <p:spPr>
          <a:xfrm>
            <a:off x="5562720" y="923760"/>
            <a:ext cx="3124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Arial"/>
              </a:rPr>
              <a:t>Quantity supplie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the amount of a good that sellers are willing and able to sell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f Supp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quantity supplied of a good rises when the price of the good ris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’s Supply Schedule and Supply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3f6f9"/>
          </a:solidFill>
          <a:ln w="2142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2f4f8"/>
          </a:solidFill>
          <a:ln w="1951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1f4f7"/>
          </a:solidFill>
          <a:ln w="1760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f0f2f5"/>
          </a:solidFill>
          <a:ln w="1555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ef1f4"/>
          </a:solidFill>
          <a:ln w="1364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deff3"/>
          </a:solidFill>
          <a:ln w="11736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beef2"/>
          </a:solidFill>
          <a:ln w="96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aecf1"/>
          </a:solidFill>
          <a:ln w="7776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9ebf0"/>
          </a:solidFill>
          <a:ln w="5868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7eaef"/>
          </a:solidFill>
          <a:ln w="396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487600" y="1266840"/>
            <a:ext cx="5718240" cy="447660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409840" y="1168560"/>
            <a:ext cx="5697360" cy="44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2389320" y="260820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389320" y="322884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2389320" y="3841920"/>
            <a:ext cx="176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>
            <a:off x="2389320" y="443700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274176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30924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346248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383364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Line 25"/>
          <p:cNvSpPr/>
          <p:nvPr/>
        </p:nvSpPr>
        <p:spPr>
          <a:xfrm>
            <a:off x="416556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>
            <a:off x="453708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Line 27"/>
          <p:cNvSpPr/>
          <p:nvPr/>
        </p:nvSpPr>
        <p:spPr>
          <a:xfrm>
            <a:off x="49068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Line 28"/>
          <p:cNvSpPr/>
          <p:nvPr/>
        </p:nvSpPr>
        <p:spPr>
          <a:xfrm>
            <a:off x="525780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Line 29"/>
          <p:cNvSpPr/>
          <p:nvPr/>
        </p:nvSpPr>
        <p:spPr>
          <a:xfrm>
            <a:off x="562932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6000840" y="5546880"/>
            <a:ext cx="144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63324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Line 32"/>
          <p:cNvSpPr/>
          <p:nvPr/>
        </p:nvSpPr>
        <p:spPr>
          <a:xfrm flipV="1">
            <a:off x="2409840" y="2039760"/>
            <a:ext cx="1736640" cy="3011760"/>
          </a:xfrm>
          <a:prstGeom prst="line">
            <a:avLst/>
          </a:prstGeom>
          <a:ln w="58680">
            <a:solidFill>
              <a:srgbClr val="004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45" name="Group 33"/>
          <p:cNvGrpSpPr/>
          <p:nvPr/>
        </p:nvGrpSpPr>
        <p:grpSpPr>
          <a:xfrm>
            <a:off x="2584440" y="2575080"/>
            <a:ext cx="1289160" cy="2971800"/>
            <a:chOff x="2584440" y="2575080"/>
            <a:chExt cx="1289160" cy="2971800"/>
          </a:xfrm>
        </p:grpSpPr>
        <p:sp>
          <p:nvSpPr>
            <p:cNvPr id="246" name="Line 34"/>
            <p:cNvSpPr/>
            <p:nvPr/>
          </p:nvSpPr>
          <p:spPr>
            <a:xfrm>
              <a:off x="2584440" y="2614680"/>
              <a:ext cx="1249200" cy="144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7" name="Line 35"/>
            <p:cNvSpPr/>
            <p:nvPr/>
          </p:nvSpPr>
          <p:spPr>
            <a:xfrm>
              <a:off x="3833640" y="2614680"/>
              <a:ext cx="1800" cy="29322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8" name="Oval 36"/>
            <p:cNvSpPr/>
            <p:nvPr/>
          </p:nvSpPr>
          <p:spPr>
            <a:xfrm>
              <a:off x="3755880" y="2575080"/>
              <a:ext cx="117720" cy="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2584440" y="2000160"/>
            <a:ext cx="1620720" cy="3546720"/>
            <a:chOff x="2584440" y="2000160"/>
            <a:chExt cx="1620720" cy="3546720"/>
          </a:xfrm>
        </p:grpSpPr>
        <p:sp>
          <p:nvSpPr>
            <p:cNvPr id="250" name="Line 38"/>
            <p:cNvSpPr/>
            <p:nvPr/>
          </p:nvSpPr>
          <p:spPr>
            <a:xfrm>
              <a:off x="2584440" y="2039760"/>
              <a:ext cx="158112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>
              <a:off x="4165560" y="2039760"/>
              <a:ext cx="1800" cy="350712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2" name="Oval 40"/>
            <p:cNvSpPr/>
            <p:nvPr/>
          </p:nvSpPr>
          <p:spPr>
            <a:xfrm>
              <a:off x="4106880" y="2000160"/>
              <a:ext cx="98280" cy="9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2584440" y="3189240"/>
            <a:ext cx="917640" cy="2357640"/>
            <a:chOff x="2584440" y="3189240"/>
            <a:chExt cx="917640" cy="2357640"/>
          </a:xfrm>
        </p:grpSpPr>
        <p:sp>
          <p:nvSpPr>
            <p:cNvPr id="254" name="Oval 42"/>
            <p:cNvSpPr/>
            <p:nvPr/>
          </p:nvSpPr>
          <p:spPr>
            <a:xfrm>
              <a:off x="3405240" y="3189240"/>
              <a:ext cx="96840" cy="9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5" name="Line 43"/>
            <p:cNvSpPr/>
            <p:nvPr/>
          </p:nvSpPr>
          <p:spPr>
            <a:xfrm>
              <a:off x="2584440" y="3228840"/>
              <a:ext cx="87804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>
              <a:off x="3462480" y="3228840"/>
              <a:ext cx="1440" cy="231804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57" name="Group 45"/>
          <p:cNvGrpSpPr/>
          <p:nvPr/>
        </p:nvGrpSpPr>
        <p:grpSpPr>
          <a:xfrm>
            <a:off x="2584440" y="3801960"/>
            <a:ext cx="566640" cy="1744920"/>
            <a:chOff x="2584440" y="3801960"/>
            <a:chExt cx="566640" cy="1744920"/>
          </a:xfrm>
        </p:grpSpPr>
        <p:grpSp>
          <p:nvGrpSpPr>
            <p:cNvPr id="258" name="Group 46"/>
            <p:cNvGrpSpPr/>
            <p:nvPr/>
          </p:nvGrpSpPr>
          <p:grpSpPr>
            <a:xfrm>
              <a:off x="2584440" y="3801960"/>
              <a:ext cx="566640" cy="119160"/>
              <a:chOff x="2584440" y="3801960"/>
              <a:chExt cx="566640" cy="119160"/>
            </a:xfrm>
          </p:grpSpPr>
          <p:sp>
            <p:nvSpPr>
              <p:cNvPr id="259" name="Oval 47"/>
              <p:cNvSpPr/>
              <p:nvPr/>
            </p:nvSpPr>
            <p:spPr>
              <a:xfrm>
                <a:off x="3033720" y="3801960"/>
                <a:ext cx="117360" cy="119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60" name="Line 48"/>
              <p:cNvSpPr/>
              <p:nvPr/>
            </p:nvSpPr>
            <p:spPr>
              <a:xfrm>
                <a:off x="2584440" y="3841920"/>
                <a:ext cx="507960" cy="1440"/>
              </a:xfrm>
              <a:prstGeom prst="line">
                <a:avLst/>
              </a:prstGeom>
              <a:ln w="19080">
                <a:solidFill>
                  <a:srgbClr val="29292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61" name="Line 49"/>
            <p:cNvSpPr/>
            <p:nvPr/>
          </p:nvSpPr>
          <p:spPr>
            <a:xfrm>
              <a:off x="3092400" y="3841920"/>
              <a:ext cx="1800" cy="170496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62" name="Group 50"/>
          <p:cNvGrpSpPr/>
          <p:nvPr/>
        </p:nvGrpSpPr>
        <p:grpSpPr>
          <a:xfrm>
            <a:off x="2546280" y="4397400"/>
            <a:ext cx="252360" cy="1149480"/>
            <a:chOff x="2546280" y="4397400"/>
            <a:chExt cx="252360" cy="1149480"/>
          </a:xfrm>
        </p:grpSpPr>
        <p:sp>
          <p:nvSpPr>
            <p:cNvPr id="263" name="Oval 51"/>
            <p:cNvSpPr/>
            <p:nvPr/>
          </p:nvSpPr>
          <p:spPr>
            <a:xfrm>
              <a:off x="2701800" y="4397400"/>
              <a:ext cx="96840" cy="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4" name="Line 52"/>
            <p:cNvSpPr/>
            <p:nvPr/>
          </p:nvSpPr>
          <p:spPr>
            <a:xfrm>
              <a:off x="2546280" y="4437000"/>
              <a:ext cx="174600" cy="18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5" name="Line 53"/>
            <p:cNvSpPr/>
            <p:nvPr/>
          </p:nvSpPr>
          <p:spPr>
            <a:xfrm>
              <a:off x="2741760" y="4416480"/>
              <a:ext cx="1440" cy="1130400"/>
            </a:xfrm>
            <a:prstGeom prst="line">
              <a:avLst/>
            </a:prstGeom>
            <a:ln w="1908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66" name="Line 54"/>
          <p:cNvSpPr/>
          <p:nvPr/>
        </p:nvSpPr>
        <p:spPr>
          <a:xfrm flipH="1">
            <a:off x="2388960" y="2039760"/>
            <a:ext cx="17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Line 55"/>
          <p:cNvSpPr/>
          <p:nvPr/>
        </p:nvSpPr>
        <p:spPr>
          <a:xfrm>
            <a:off x="6723000" y="5546880"/>
            <a:ext cx="1800" cy="11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Freeform 56"/>
          <p:cNvSpPr/>
          <p:nvPr/>
        </p:nvSpPr>
        <p:spPr>
          <a:xfrm>
            <a:off x="2389320" y="1168560"/>
            <a:ext cx="5717880" cy="4495680"/>
          </a:xfrm>
          <a:custGeom>
            <a:avLst/>
            <a:gdLst>
              <a:gd name="textAreaLeft" fmla="*/ 0 w 5717880"/>
              <a:gd name="textAreaRight" fmla="*/ 5717880 w 571788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3602" h="2832">
                <a:moveTo>
                  <a:pt x="0" y="0"/>
                </a:moveTo>
                <a:lnTo>
                  <a:pt x="0" y="2832"/>
                </a:lnTo>
                <a:lnTo>
                  <a:pt x="3602" y="28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2389320" y="5070600"/>
            <a:ext cx="176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2019240" y="2813040"/>
            <a:ext cx="1800" cy="257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H="1">
            <a:off x="3482640" y="5981760"/>
            <a:ext cx="25380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Rectangle 60"/>
          <p:cNvSpPr/>
          <p:nvPr/>
        </p:nvSpPr>
        <p:spPr>
          <a:xfrm>
            <a:off x="1519560" y="1146240"/>
            <a:ext cx="79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ice of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Rectangle 61"/>
          <p:cNvSpPr/>
          <p:nvPr/>
        </p:nvSpPr>
        <p:spPr>
          <a:xfrm>
            <a:off x="1280160" y="140976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Rectangle 62"/>
          <p:cNvSpPr/>
          <p:nvPr/>
        </p:nvSpPr>
        <p:spPr>
          <a:xfrm>
            <a:off x="1770480" y="1673280"/>
            <a:ext cx="54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Rectangle 63"/>
          <p:cNvSpPr/>
          <p:nvPr/>
        </p:nvSpPr>
        <p:spPr>
          <a:xfrm>
            <a:off x="23166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Rectangle 64"/>
          <p:cNvSpPr/>
          <p:nvPr/>
        </p:nvSpPr>
        <p:spPr>
          <a:xfrm>
            <a:off x="1835640" y="2490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Rectangle 65"/>
          <p:cNvSpPr/>
          <p:nvPr/>
        </p:nvSpPr>
        <p:spPr>
          <a:xfrm>
            <a:off x="1835640" y="30988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Rectangle 66"/>
          <p:cNvSpPr/>
          <p:nvPr/>
        </p:nvSpPr>
        <p:spPr>
          <a:xfrm>
            <a:off x="1835640" y="37450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Rectangle 67"/>
          <p:cNvSpPr/>
          <p:nvPr/>
        </p:nvSpPr>
        <p:spPr>
          <a:xfrm>
            <a:off x="1835640" y="43275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Rectangle 68"/>
          <p:cNvSpPr/>
          <p:nvPr/>
        </p:nvSpPr>
        <p:spPr>
          <a:xfrm>
            <a:off x="271188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Rectangle 69"/>
          <p:cNvSpPr/>
          <p:nvPr/>
        </p:nvSpPr>
        <p:spPr>
          <a:xfrm>
            <a:off x="30438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Rectangle 70"/>
          <p:cNvSpPr/>
          <p:nvPr/>
        </p:nvSpPr>
        <p:spPr>
          <a:xfrm>
            <a:off x="34074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Rectangle 71"/>
          <p:cNvSpPr/>
          <p:nvPr/>
        </p:nvSpPr>
        <p:spPr>
          <a:xfrm>
            <a:off x="377100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Rectangle 72"/>
          <p:cNvSpPr/>
          <p:nvPr/>
        </p:nvSpPr>
        <p:spPr>
          <a:xfrm>
            <a:off x="412812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449172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Rectangle 74"/>
          <p:cNvSpPr/>
          <p:nvPr/>
        </p:nvSpPr>
        <p:spPr>
          <a:xfrm>
            <a:off x="48549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Rectangle 75"/>
          <p:cNvSpPr/>
          <p:nvPr/>
        </p:nvSpPr>
        <p:spPr>
          <a:xfrm>
            <a:off x="52185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Rectangle 76"/>
          <p:cNvSpPr/>
          <p:nvPr/>
        </p:nvSpPr>
        <p:spPr>
          <a:xfrm>
            <a:off x="5582160" y="5743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Rectangle 77"/>
          <p:cNvSpPr/>
          <p:nvPr/>
        </p:nvSpPr>
        <p:spPr>
          <a:xfrm>
            <a:off x="588528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Rectangle 78"/>
          <p:cNvSpPr/>
          <p:nvPr/>
        </p:nvSpPr>
        <p:spPr>
          <a:xfrm>
            <a:off x="624276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Rectangle 79"/>
          <p:cNvSpPr/>
          <p:nvPr/>
        </p:nvSpPr>
        <p:spPr>
          <a:xfrm>
            <a:off x="6955920" y="5711760"/>
            <a:ext cx="114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ntity of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80"/>
          <p:cNvSpPr/>
          <p:nvPr/>
        </p:nvSpPr>
        <p:spPr>
          <a:xfrm>
            <a:off x="6358680" y="5973840"/>
            <a:ext cx="176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ce-Cream Cone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Rectangle 81"/>
          <p:cNvSpPr/>
          <p:nvPr/>
        </p:nvSpPr>
        <p:spPr>
          <a:xfrm>
            <a:off x="1724400" y="19224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$3.0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Rectangle 82"/>
          <p:cNvSpPr/>
          <p:nvPr/>
        </p:nvSpPr>
        <p:spPr>
          <a:xfrm>
            <a:off x="6606000" y="5743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Rectangle 83"/>
          <p:cNvSpPr/>
          <p:nvPr/>
        </p:nvSpPr>
        <p:spPr>
          <a:xfrm>
            <a:off x="1835640" y="4960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96" name="Group 84"/>
          <p:cNvGrpSpPr/>
          <p:nvPr/>
        </p:nvGrpSpPr>
        <p:grpSpPr>
          <a:xfrm>
            <a:off x="555480" y="2593800"/>
            <a:ext cx="1463760" cy="871560"/>
            <a:chOff x="555480" y="2593800"/>
            <a:chExt cx="1463760" cy="871560"/>
          </a:xfrm>
        </p:grpSpPr>
        <p:sp>
          <p:nvSpPr>
            <p:cNvPr id="297" name="Line 85"/>
            <p:cNvSpPr/>
            <p:nvPr/>
          </p:nvSpPr>
          <p:spPr>
            <a:xfrm>
              <a:off x="1628640" y="2951280"/>
              <a:ext cx="390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555480" y="2593800"/>
              <a:ext cx="1229040" cy="87156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621360" y="26337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 An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619920" y="2897280"/>
              <a:ext cx="8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620640" y="3160800"/>
              <a:ext cx="81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 price 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1407600" y="3160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03" name="Group 91"/>
          <p:cNvGrpSpPr/>
          <p:nvPr/>
        </p:nvGrpSpPr>
        <p:grpSpPr>
          <a:xfrm>
            <a:off x="3130560" y="6051600"/>
            <a:ext cx="4124880" cy="614160"/>
            <a:chOff x="3130560" y="6051600"/>
            <a:chExt cx="4124880" cy="614160"/>
          </a:xfrm>
        </p:grpSpPr>
        <p:sp>
          <p:nvSpPr>
            <p:cNvPr id="304" name="Line 92"/>
            <p:cNvSpPr/>
            <p:nvPr/>
          </p:nvSpPr>
          <p:spPr>
            <a:xfrm flipV="1">
              <a:off x="3560760" y="6051600"/>
              <a:ext cx="14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3130560" y="6269040"/>
              <a:ext cx="4118040" cy="396720"/>
            </a:xfrm>
            <a:prstGeom prst="rect">
              <a:avLst/>
            </a:prstGeom>
            <a:solidFill>
              <a:srgbClr val="e1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3178800" y="6334200"/>
              <a:ext cx="24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3406320" y="63342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3648960" y="6334200"/>
              <a:ext cx="360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creases quantity of cones supplied.</a:t>
              </a:r>
              <a:endParaRPr b="0" lang="en-US" sz="17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309" name="Picture 97" descr=""/>
          <p:cNvPicPr/>
          <p:nvPr/>
        </p:nvPicPr>
        <p:blipFill>
          <a:blip r:embed="rId2"/>
          <a:srcRect l="0" t="0" r="67477" b="46863"/>
          <a:stretch/>
        </p:blipFill>
        <p:spPr>
          <a:xfrm>
            <a:off x="4876920" y="914400"/>
            <a:ext cx="3429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2:56:22Z</dcterms:created>
  <dc:creator>Lauren Amorin</dc:creator>
  <dc:description/>
  <dc:language>en-US</dc:language>
  <cp:lastModifiedBy>Administrator</cp:lastModifiedBy>
  <dcterms:modified xsi:type="dcterms:W3CDTF">2013-04-12T11:13:15Z</dcterms:modified>
  <cp:revision>3</cp:revision>
  <dc:subject/>
  <dc:title>Slide 1</dc:title>
</cp:coreProperties>
</file>